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D27-872B-4CC7-8EB2-573A9551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394-30B1-422B-9656-4F8CFEDA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7BC-F5EB-490B-91B5-6DDF8355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447-2BBC-46FB-B122-BD7D1E81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FD4-3BA4-4486-8F05-F923A0F4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09C-3E00-44BC-BA12-5C53AEAD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E60-F467-40DB-B2CC-0790760A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D7D-4612-4295-9701-280185B6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0DD-8FC0-4BE6-A3E8-6F6FDBE3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EB1-D63D-48AB-97E8-4BBB031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DA6-5E7D-431C-B75C-4199E6A3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E1F-D0D7-4FA5-829E-CA2D9928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C363-B13A-4193-9420-FC5A65D749F6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9903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RECUPERARE 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  <a:ea typeface="Arial"/>
              </a:rPr>
              <a:t>ŞI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  <a:ea typeface="Arial"/>
              </a:rPr>
              <a:t>DEZVOLT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95480" y="4191120"/>
            <a:ext cx="3886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00240" y="228600"/>
            <a:ext cx="4343400" cy="586728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Scrieti produse egale cu fiecare dintre numerele: 56; 54, 27, 28, 32, 81, 63, 72, 49,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4343400" cy="58975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Num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ăraţi, apoi scrieţi numere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a) din 2 în 2 pornind de la 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b) din 3 în 3 pornind de la 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c) Din 5 în 5 pornid de la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9880" y="5048280"/>
            <a:ext cx="1791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534520" cy="17827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3.  Scrie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ţi pe caiet, apoi încercuiţi  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numerele care pot fi rezultate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le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înmulţirilo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381880" cy="41911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a) cu 2 :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2, 8, 16, 6 10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11,19,20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b) cu 3 :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3, 6, 8, 9, 15, 16, 20,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21, 18, 12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c) cu 5 :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5, 20, 27, 45, 35, 30,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56, 25, 40, 4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86600" y="259092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8840" y="1142640"/>
            <a:ext cx="3886200" cy="426708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5. O cutie con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ţ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ine 10 ou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ă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.C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â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e ou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ă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 con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ţ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in 10 cutii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4572000" cy="556272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4.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ompara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ţ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produse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6 X 6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6 X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7 X 8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8 X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2 X 8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4 X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5 X 6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3 X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4 X 9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6 X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7 X 5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8 X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1337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74320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342900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1480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480060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410080"/>
            <a:ext cx="1295280" cy="38124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3338" h="21600">
                <a:moveTo>
                  <a:pt x="0" y="0"/>
                </a:moveTo>
                <a:lnTo>
                  <a:pt x="73338" y="0"/>
                </a:lnTo>
                <a:lnTo>
                  <a:pt x="73338" y="21600"/>
                </a:lnTo>
                <a:lnTo>
                  <a:pt x="0" y="21600"/>
                </a:lnTo>
                <a:close/>
              </a:path>
              <a:path fill="lightenLess" w="73338" h="21600">
                <a:moveTo>
                  <a:pt x="0" y="0"/>
                </a:moveTo>
                <a:lnTo>
                  <a:pt x="73338" y="0"/>
                </a:lnTo>
                <a:lnTo>
                  <a:pt x="71938" y="1400"/>
                </a:lnTo>
                <a:lnTo>
                  <a:pt x="1400" y="1400"/>
                </a:lnTo>
                <a:close/>
              </a:path>
              <a:path fill="darken" w="73338" h="21600">
                <a:moveTo>
                  <a:pt x="73338" y="0"/>
                </a:moveTo>
                <a:lnTo>
                  <a:pt x="73338" y="21600"/>
                </a:lnTo>
                <a:lnTo>
                  <a:pt x="71938" y="20200"/>
                </a:lnTo>
                <a:lnTo>
                  <a:pt x="71938" y="1400"/>
                </a:lnTo>
                <a:close/>
              </a:path>
              <a:path fill="darkenLess" w="73338" h="21600">
                <a:moveTo>
                  <a:pt x="73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38" y="20200"/>
                </a:lnTo>
                <a:close/>
              </a:path>
              <a:path fill="lighten" w="73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920520" cy="1447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543800" y="4343400"/>
            <a:ext cx="11430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3657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6 .Efectua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ţ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i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) 100 – 25 – 9 + 18 – 4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b)   75 – ( 29 + 36 – 19 ) + 1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)   ( 15 + 79 – 31 ) – ( 46 – 29 + 2 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d)   56 – 3 x 9 + 2 x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)    2 x 1 x 4 x7 – 5 x 10 + 1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f)  ( 17 + 3 x 9 ) – ( 84 – 5 x 8 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g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9 x 9 – 4 x ( 69 – 7 x 9 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) ( 100 – 8 x 8 x 1 ) – ( 46 – 29 + 2 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400040" cy="220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2520" y="609120"/>
            <a:ext cx="4038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8.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Afla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ţ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i valoarea necunoscutei: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7 x a + 12 = 75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7 x a – 19 = 23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a – 9 x 5 = 27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a + 7 x 5 = 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46483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7. Afla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ţ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i pe b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şi c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ştiind c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a = 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b = a x 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c = b x 3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312408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543800" y="1066680"/>
            <a:ext cx="11430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5943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De trei ori copilul car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Câte 7 pietrice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- Uf ! se întristă deodat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Dacă aş mai avea vre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Aş putea chiar azi desc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Uşa pentru musafi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-Spune tu că mergi la şco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Câte pietre au i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În castelul ferme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426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00600" y="502920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019920" y="5029200"/>
            <a:ext cx="2889000" cy="137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Într-o seră s-au plantat 6 rânduri a câte 9 muşcate roşii şi 8 rânduri a cât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muşcate albe. Din care muşcate s-au plantat ma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multe şi cu cât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60962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10280" y="380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934320" y="22860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467480" y="4648320"/>
            <a:ext cx="1143000" cy="117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8153640" cy="586728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76" name=""/>
          <p:cNvSpPr txBox="1"/>
          <p:nvPr/>
        </p:nvSpPr>
        <p:spPr>
          <a:xfrm>
            <a:off x="1371600" y="4114800"/>
            <a:ext cx="39625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alizat de inv.</a:t>
            </a:r>
            <a:endParaRPr b="1" i="1" lang="en-US" sz="1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tanciu Marioara</a:t>
            </a:r>
            <a:endParaRPr b="1" i="1" lang="en-US" sz="1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c. Gen. ,,Lucian Blaga"</a:t>
            </a:r>
            <a:endParaRPr b="1" i="1" lang="en-US" sz="1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</a:t>
            </a: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eva</a:t>
            </a:r>
            <a:endParaRPr b="1" i="1" lang="en-US" sz="1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7:04:10Z</dcterms:created>
  <dc:creator>pc</dc:creator>
  <dc:description/>
  <dc:language>en-US</dc:language>
  <cp:lastModifiedBy>pc</cp:lastModifiedBy>
  <dcterms:modified xsi:type="dcterms:W3CDTF">2007-11-08T19:32:00Z</dcterms:modified>
  <cp:revision>2</cp:revision>
  <dc:subject/>
  <dc:title> RECUPERARE      ŞI  DEZVOLTARE</dc:title>
</cp:coreProperties>
</file>